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FFE-51B9-4F49-9586-EA5C1366D21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0E5C-2E22-42A9-A522-1562E7A15EA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24A-64E4-4FCB-BC3C-D6E76BA5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70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6F6-6B7C-4B29-A6BD-A697B91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10A-B041-4551-8ADC-A4443F5F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6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6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70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70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70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24F-2031-4BCF-99EC-CABB3674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08A-5F68-4D61-9B9F-2BD4790B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44C-9D96-4FD8-BD94-4D7A1432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F66-AD88-440E-9C6C-EBB44731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2B7-14A6-4067-B832-143E1B58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8EA-0DCE-452E-82B4-4D99E6A2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9F4-A851-4290-AC62-B09B002E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70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90C-C1B0-40C1-A68E-1D2BF43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6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0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330-5D4E-4A27-80FF-0D45037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Arial"/>
                <a:ea typeface="微軟正黑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Arial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Arial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1FF-58CB-4970-8985-BA526C50D8BB}" type="slidenum">
              <a:rPr b="0" lang="zh-TW" sz="1200" spc="-1" strike="noStrike">
                <a:solidFill>
                  <a:srgbClr val="898989"/>
                </a:solidFill>
                <a:latin typeface="Arial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54040"/>
            <a:ext cx="8250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7200" spc="-1" strike="noStrike">
              <a:solidFill>
                <a:srgbClr val="558ed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800" spc="-1" strike="noStrike">
              <a:solidFill>
                <a:srgbClr val="558ed5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06:51:19Z</dcterms:created>
  <dc:creator>cgu</dc:creator>
  <dc:description/>
  <dc:language>en-US</dc:language>
  <cp:lastModifiedBy>cgu</cp:lastModifiedBy>
  <dcterms:modified xsi:type="dcterms:W3CDTF">2012-10-25T06:43:59Z</dcterms:modified>
  <cp:revision>19</cp:revision>
  <dc:subject/>
  <dc:title>投影片 1</dc:title>
</cp:coreProperties>
</file>