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6D74-B80F-480E-A0DC-248F21B2A5B6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23F1-ACBF-4C8E-916F-0DB337294393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AB7C-4440-4CF4-8F22-DA969EDBC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6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704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5D4C-0194-4F15-B740-854F8381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6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6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704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704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326D-9E69-4936-A836-60B635FAE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60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60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60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704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704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704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5FF0-552D-4058-BDAA-0C8D89D50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6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15A1-1992-4848-9BDA-840B7B06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6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A5BC-AA02-49C5-9EF8-F1938CB1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60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60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C6E6-07DE-4BEB-9C46-F4950779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AD94-18E1-46B4-9D50-39424022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561A-F546-45BA-9C96-49BB1485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6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60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704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FDEC-8156-4C3E-BBB4-9EC097D2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60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6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704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BF6B-A2AD-43D0-B613-959024A4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6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6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704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3C8A-F4EA-4E41-A241-3241052A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6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Arial"/>
                <a:ea typeface="微軟正黑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Arial"/>
                <a:ea typeface="微軟正黑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Arial"/>
                <a:ea typeface="微軟正黑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9C28-8A81-47D4-8F56-661500795456}" type="slidenum">
              <a:rPr b="0" lang="zh-TW" sz="1200" spc="-1" strike="noStrike">
                <a:solidFill>
                  <a:srgbClr val="898989"/>
                </a:solidFill>
                <a:latin typeface="Arial"/>
                <a:ea typeface="微軟正黑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14400"/>
            <a:ext cx="82501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4052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000" spc="-1" strike="noStrike">
              <a:solidFill>
                <a:srgbClr val="4f6228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412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06:51:19Z</dcterms:created>
  <dc:creator>cgu</dc:creator>
  <dc:description/>
  <dc:language>en-US</dc:language>
  <cp:lastModifiedBy>cgu</cp:lastModifiedBy>
  <dcterms:modified xsi:type="dcterms:W3CDTF">2012-10-25T06:45:02Z</dcterms:modified>
  <cp:revision>17</cp:revision>
  <dc:subject/>
  <dc:title>投影片 1</dc:title>
</cp:coreProperties>
</file>